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3.wmf" ContentType="image/x-wmf"/>
  <Override PartName="/ppt/media/image5.wmf" ContentType="image/x-wmf"/>
  <Override PartName="/ppt/media/applause.wav" ContentType="audio/x-wav"/>
  <Override PartName="/ppt/media/glass.wav" ContentType="audio/x-wav"/>
  <Override PartName="/ppt/media/image6.wmf" ContentType="image/x-wmf"/>
  <Override PartName="/ppt/media/image11.jpeg" ContentType="image/jpeg"/>
  <Override PartName="/ppt/media/image7.wmf" ContentType="image/x-wmf"/>
  <Override PartName="/ppt/media/image10.wmf" ContentType="image/x-wmf"/>
  <Override PartName="/ppt/media/image25.wmf" ContentType="image/x-wmf"/>
  <Override PartName="/ppt/media/image8.wmf" ContentType="image/x-wmf"/>
  <Override PartName="/ppt/media/image23.wmf" ContentType="image/x-wmf"/>
  <Override PartName="/ppt/media/image28.jpeg" ContentType="image/jpeg"/>
  <Override PartName="/ppt/media/image9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8EC-C871-4D40-A3CC-900967D5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3F2-103C-426D-8E2B-AC60ED3E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61A-03A1-4392-876E-6B9F479C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AA18-4F76-4422-8AE5-B0CF7694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ED6E-0B40-4960-9D01-2A096F3A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0367-98F6-4EED-985F-1896ED44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4A05-3660-4A9C-B926-A8367542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11FA-C9D2-48FB-B47A-F8338F09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444D-54B2-4363-AFD4-FFAB0818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A115-D380-4111-B960-327A49BD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1EC8-D039-4A1F-A66A-1ECC310A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E61-4675-4CF3-B4DD-E9ABE071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1C20-84BC-4CE6-BC62-BAF2B675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35E6-689F-4111-A477-1E91F132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1D53-5D75-4D05-B27F-E7C4236A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13EB-5F0F-4C3A-B38D-DA2A83FB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03EA-00C8-40BC-8880-F5E6DDC4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7B4-DF55-4A52-8487-3E10DD79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0CC-62CB-4C50-BB3E-5C9AE318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529-E991-4A38-9DAC-EF263ECC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FE0-DC19-40B9-963D-E386877F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E9A-F44D-4105-AEDB-0CBD0573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7DF-5571-4BB9-963C-11CD8558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824-BFB9-4E71-92BB-099C723B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7F4A-6238-4447-B4F1-B23B45E59E4E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241F-F500-4480-9662-E603BBD64894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4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6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audio" Target="../media/glas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Times New Roman"/>
              </a:rPr>
              <a:t>Adunarea </a:t>
            </a:r>
            <a:r>
              <a:rPr b="1" i="1" lang="en-US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şi scăderea </a:t>
            </a:r>
            <a:r>
              <a:rPr b="1" i="1" lang="en-US" sz="5400" spc="-1" strike="noStrike">
                <a:solidFill>
                  <a:srgbClr val="ff3300"/>
                </a:solidFill>
                <a:latin typeface="Times New Roman"/>
              </a:rPr>
              <a:t>numerelor naturale</a:t>
            </a:r>
            <a:br>
              <a:rPr sz="5400"/>
            </a:b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n concentrul 0 - 10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3353040" cy="3886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507480" y="609480"/>
            <a:ext cx="3481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Bravo!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Ai </a:t>
            </a:r>
            <a:r>
              <a:rPr b="1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ştiut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7467480" y="5334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1755720" cy="2035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00200" y="4191120"/>
            <a:ext cx="1994040" cy="15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640160" y="1981080"/>
            <a:ext cx="69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6633"/>
                </a:solidFill>
                <a:latin typeface="Times New Roman"/>
              </a:rPr>
              <a:t>7   </a:t>
            </a:r>
            <a:r>
              <a:rPr b="1" lang="en-US" sz="9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–   3   =  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190512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66294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3" action="ppaction://hlinksldjump"/>
          </p:cNvPr>
          <p:cNvSpPr/>
          <p:nvPr/>
        </p:nvSpPr>
        <p:spPr>
          <a:xfrm>
            <a:off x="4267080" y="4648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733920" y="609480"/>
            <a:ext cx="24382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76360" y="1295280"/>
            <a:ext cx="339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Times New Roman"/>
              </a:rPr>
              <a:t>Corect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elicit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ri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1828800" cy="1155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267080" y="5105520"/>
            <a:ext cx="1832040" cy="120312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7467480" y="5334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23880" y="2362320"/>
            <a:ext cx="697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00"/>
                </a:solidFill>
                <a:latin typeface="Times New Roman"/>
              </a:rPr>
              <a:t>9   </a:t>
            </a:r>
            <a:r>
              <a:rPr b="1" lang="en-US" sz="9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–   7   =  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1981080" y="4724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662940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4267080" y="4724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505320" y="685800"/>
            <a:ext cx="26668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430080" y="990720"/>
            <a:ext cx="308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6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şa est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rav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62520" y="4876920"/>
            <a:ext cx="1936800" cy="1400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1447920" cy="15242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74674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50080" y="2286000"/>
            <a:ext cx="73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cc"/>
                </a:solidFill>
                <a:latin typeface="Times New Roman"/>
              </a:rPr>
              <a:t>6   +   4   =   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4602240" cy="1963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4800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4800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4800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6680" y="457200"/>
            <a:ext cx="7272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Corec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Te pricepi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la calcul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2133720" cy="1676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362320" y="41911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74674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3400" y="2514600"/>
            <a:ext cx="69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Times New Roman"/>
              </a:rPr>
              <a:t>8   </a:t>
            </a:r>
            <a:r>
              <a:rPr b="1" lang="en-US" sz="9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–   4   =  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62520" y="457200"/>
            <a:ext cx="2133360" cy="22096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9051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885400" y="685800"/>
            <a:ext cx="432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REC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BRAV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1994040" cy="1517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57400" y="365760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3915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23880" y="685800"/>
            <a:ext cx="7620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i termina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şti matematician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90920" y="3657600"/>
            <a:ext cx="4952880" cy="2362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676520" y="838080"/>
            <a:ext cx="2133360" cy="198144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5438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54640" y="2362320"/>
            <a:ext cx="64472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Times New Roman"/>
              </a:rPr>
              <a:t>2  +   5  =  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22860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441972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647712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819520" y="152280"/>
            <a:ext cx="45720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95280" y="685800"/>
            <a:ext cx="70866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Ai gre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şit!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Mai încearcă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9880" y="2209680"/>
            <a:ext cx="1435320" cy="1514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0384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44197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2057400" cy="2098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676520" y="533520"/>
            <a:ext cx="195552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440440" y="1143000"/>
            <a:ext cx="439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CORECT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Times New Roman"/>
              </a:rPr>
              <a:t>Bravo!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1952640" cy="182880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7238880" y="5334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76520" y="1905120"/>
            <a:ext cx="70610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imes New Roman"/>
              </a:rPr>
              <a:t>5   +   4   =  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2057400" y="4343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4267080" y="4343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6553080" y="4343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267080" y="304920"/>
            <a:ext cx="4583160" cy="14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743200" y="457200"/>
            <a:ext cx="4588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Times New Roman"/>
              </a:rPr>
              <a:t>A</a:t>
            </a:r>
            <a:r>
              <a:rPr b="1" lang="en-US" sz="8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şa este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ontinuă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1698840" cy="1911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733920" y="5334120"/>
            <a:ext cx="2098440" cy="85068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18080" y="205272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16240" y="2438280"/>
            <a:ext cx="6971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Times New Roman"/>
              </a:rPr>
              <a:t>3   </a:t>
            </a:r>
            <a:r>
              <a:rPr b="1" lang="en-US" sz="96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–  </a:t>
            </a:r>
            <a:r>
              <a:rPr b="1" lang="en-US" sz="9600" spc="-1" strike="noStrike">
                <a:solidFill>
                  <a:srgbClr val="00cc00"/>
                </a:solidFill>
                <a:latin typeface="Times New Roman"/>
              </a:rPr>
              <a:t> 2   =  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4495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53080" y="4495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1905120" y="4495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32763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11480" y="609480"/>
            <a:ext cx="642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Times New Roman"/>
              </a:rPr>
              <a:t>Corect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Ştii să calculezi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505320" y="4191120"/>
            <a:ext cx="1930320" cy="1257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1222200" cy="197460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73915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9720" y="2209680"/>
            <a:ext cx="705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1   +   2   =  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2133720" y="441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5530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3" action="ppaction://hlinksldjump"/>
          </p:cNvPr>
          <p:cNvSpPr/>
          <p:nvPr/>
        </p:nvSpPr>
        <p:spPr>
          <a:xfrm>
            <a:off x="4343400" y="441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276720" y="228600"/>
            <a:ext cx="32763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7:46:22Z</dcterms:created>
  <dc:creator>Andrei</dc:creator>
  <dc:description/>
  <dc:language>en-US</dc:language>
  <cp:lastModifiedBy>IULIA</cp:lastModifiedBy>
  <dcterms:modified xsi:type="dcterms:W3CDTF">2009-12-02T15:47:19Z</dcterms:modified>
  <cp:revision>14</cp:revision>
  <dc:subject/>
  <dc:title>Adunarea numerelor naturale în concentrul 0 - 10</dc:title>
</cp:coreProperties>
</file>